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2.jpeg" ContentType="image/jpeg"/>
  <Override PartName="/ppt/media/image7.wmf" ContentType="image/x-wmf"/>
  <Override PartName="/ppt/media/image20.jpeg" ContentType="image/jpeg"/>
  <Override PartName="/ppt/media/image29.jpeg" ContentType="image/jpeg"/>
  <Override PartName="/ppt/media/image10.jpeg" ContentType="image/jpeg"/>
  <Override PartName="/ppt/media/image9.wmf" ContentType="image/x-wmf"/>
  <Override PartName="/ppt/media/image13.jpeg" ContentType="image/jpeg"/>
  <Override PartName="/ppt/media/image40.jpeg" ContentType="image/jpeg"/>
  <Override PartName="/ppt/media/image38.jpeg" ContentType="image/jpeg"/>
  <Override PartName="/ppt/media/image30.wmf" ContentType="image/x-wmf"/>
  <Override PartName="/ppt/media/image33.jpeg" ContentType="image/jpeg"/>
  <Override PartName="/ppt/media/image5.wmf" ContentType="image/x-wmf"/>
  <Override PartName="/ppt/media/image27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4.jpeg" ContentType="image/jpeg"/>
  <Override PartName="/ppt/media/image39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37.jpeg" ContentType="image/jpeg"/>
  <Override PartName="/ppt/media/image28.wmf" ContentType="image/x-wmf"/>
  <Override PartName="/ppt/media/image3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F5E-1FD8-47A0-A42F-56CEB319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636-DAF5-48C0-864C-C19D92EC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99A-6A84-4CEC-94E8-173056D4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111-8D21-45DF-93BF-FCC107FE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7E21-FFC0-4F77-8288-A7F30B36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45B1-B70B-474A-994C-4E670563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3509-29EC-4187-B325-9A3CF078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93B-06A2-4295-A3B1-40047D8C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8C62-C12E-4833-A70E-8E259023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6775-ADD4-47D6-B623-C39537BB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7FBA-3C72-4C79-B5B9-54D6DF8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E0F-A9FD-422C-A0F6-F4FE6FA5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EB01-1930-42BC-9A88-DF5F7EDD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A67-FD66-477F-BD69-A6DAA762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EC17-BB78-4229-BD3F-71617803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2C52-E07C-4AC3-9999-CFCB5725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8A9F-43E0-4F4A-B2DC-63B7A0A9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D11-7D21-4F4A-8119-6499492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081-7596-4A82-AB9D-A4494FD2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E4E-F3BC-4D2D-B77B-13EAF28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FA1-22A8-4A70-BFB1-DC1BACD3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34A-2F73-45E2-BBB4-41C7F48E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DD6-F03E-4406-A5E7-BBED2AC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556-9C95-429B-A91D-637D83DA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1823-B067-416A-BDAB-B366067FF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AE17-546A-445A-9593-F6E9AEA1B4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Sound in a Solid Ro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ed depends on the rod’s compressibility and inertial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is the Young’s Modulus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ρ is the density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81080" y="2971800"/>
                <a:ext cx="175284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Sound, Gener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ed of sound is higher in solids than in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in a solid interact more stro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ed is slower in liquids than in sol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quids are more compre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23880" y="2103480"/>
                <a:ext cx="38102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lastic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erti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Sound in Ai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31 m/s is the speed of sound at 0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 is the absolute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19280" y="1828800"/>
          <a:ext cx="4762440" cy="14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28800"/>
                    <a:ext cx="47624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nsity of Sound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verag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wave is the rate at which the energy flows through a unit area, A, oriented perpendicular to the direction of travel of the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ate of energy transfer is the p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are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666880" y="3809880"/>
          <a:ext cx="257832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809880"/>
                    <a:ext cx="25783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ous Intensities of Sou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shold of hea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intest sound most humans can h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shold of p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udest sound most humans can tole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1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ar is a very sensitive detector of sound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an detect pressure fluctuations as small as about 3 parts i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nsity Level of Sound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ensation of loudness is logarithmic in the human h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β is the intensity level or the decibel level of the s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threshold of hea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895400" y="4097160"/>
          <a:ext cx="268596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5400" y="4097160"/>
                    <a:ext cx="268596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ous Intensity Leve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shold of hearing is 0 d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shold of pain is 120 d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et airplanes are about 150 d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14.2 lists intensity levels of various sou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ing a given intensity by 10 adds 10 dB to the intensity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herical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pherical wave propagates radially outward from the oscillating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propagates equally in all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tensity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52480" y="5486400"/>
          <a:ext cx="308304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486400"/>
                    <a:ext cx="30830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440320" y="201780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nsity of a Point Sou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the intensity varies as 1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is is 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verse square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verage power is the same through any spherical surface centered on the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ompare intensities at two locations, the inverse square relationship can be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73320" y="5257800"/>
          <a:ext cx="1625760" cy="13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5257800"/>
                    <a:ext cx="16257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presentations of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017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ave fro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he concentric ar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between successive wave fronts is the wave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he radial lines pointing out from the source and perpendicular to the wave fro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29480" y="2017800"/>
            <a:ext cx="243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Revie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7,15,17,21,31,34,37,43,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ne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 away from the source, the wave fronts are nearly parallel pla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ys are nearly parallel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mall segment of the wave front is approximately a plane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5120" y="2038320"/>
            <a:ext cx="38098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oppler effect is experienced whenever there is relative motion between a source of waves and an obser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ource and the observer are moving toward each other, the observer hears a higher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ource and the observer are moving away from each other, the observer hears a lower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the Doppler Effect is commonly experienced with sound waves, it is a phenomena common to all wa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ir is station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peed measurements are made relative to the stationary med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ase 1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(Observer Toward Source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bserver is moving toward a stationary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his movement, the observer detects an additional number of wave fro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equency heard is incre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45120" y="2936880"/>
            <a:ext cx="38098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ase 1</a:t>
            </a:r>
            <a:br>
              <a:rPr sz="4400"/>
            </a:br>
            <a:r>
              <a:rPr b="0" lang="en-US" sz="3800" spc="-1" strike="noStrike">
                <a:solidFill>
                  <a:srgbClr val="333399"/>
                </a:solidFill>
                <a:latin typeface="Verdana"/>
              </a:rPr>
              <a:t>(Observer Away from Source)</a:t>
            </a:r>
            <a:endParaRPr b="0" lang="en-US" sz="3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bserver is moving away from a stationary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server detects fewer wave fronts per sec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equency appears 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5120" y="288432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ase 1 –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moving toward the stationary source, the observed frequency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moving away from the stationary source, substitute –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the abov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666880" y="3124080"/>
          <a:ext cx="3048120" cy="11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30481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Case 2 (Source in Motion)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source moves toward the observer (A), the wavelength appears shorter and the frequency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source moves away from the observer (B), the wavelength appears longer and the frequency appears to be l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45120" y="2440080"/>
            <a:ext cx="38098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Source Moving –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–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hen the source is moving toward the observer and +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hen the source is moving away from the ob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1981080"/>
          <a:ext cx="332604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332604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oppler Effect, General Ca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the source and the observer could be mo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positive values of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motion is to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appears hig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negative values of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motion is a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appears l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362320" y="2819520"/>
          <a:ext cx="2739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819520"/>
                    <a:ext cx="2739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ock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hock wave results when the source velocity exceeds the speed of the wave it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rcles represent the wave fronts emitted by the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45120" y="2198520"/>
            <a:ext cx="38098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ducing a Sound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nd waves are longitudinal waves traveling through a med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uning fork can be used as an example of producing a sound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4254480"/>
            <a:ext cx="7772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ock Wav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ngent lines are drawn from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the wave front centered o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ngle between one of these tangent lines and the direction of travel is given by si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θ = v /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e ratio v/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Mach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e conical wave front is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shock w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ock Wave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ck waves carry energy concentrated on the surface of the cone, with correspondingly great pressure var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jet produces a shock wave seen as a f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45120" y="2117880"/>
            <a:ext cx="38098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of Sound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nd waves interf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e interference occurs when the path difference between two waves’ motion is zero or some integer multiple of waveleng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difference = 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ructive interference occurs when the path difference between two waves’ motion is an odd half wavel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difference = (n +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½)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traveling wave reflects back on itself, it creates traveling waves in both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ve and its reflection interfere according to the superposition princ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exactly the right frequency, the wave will appear to stand st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nding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re the two traveling waves have the same magnitude of displacement, but the displacements are in opposite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 displacement is zero at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between two nodes i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½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tino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re the standing wave vibrates at maximum ampl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 on a St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des must occur at the ends of the string because these points are fi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195720" y="2017800"/>
            <a:ext cx="3744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ink arrows indicate the direction of motion of the parts of the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oints on the string oscillate together vertically with the same frequency, but different points have different amplitudes of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227640" y="2017800"/>
            <a:ext cx="164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 on a String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owest frequency of vibration (b)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undamental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4800600"/>
          <a:ext cx="32990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800600"/>
                    <a:ext cx="32990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145120" y="2774880"/>
            <a:ext cx="38098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 on a String – Frequenc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m a harmonic s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fundamental and also the first harmo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econd harmo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s in the string that are not in the harmonic series are quickly damped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ffect, when the string is disturbed, it “selects” the standing wave freq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orced Vibr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ystem with a driving force will force a vibration at its frequ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frequency of the driving force equals the natural frequency of the system, the system is said to be i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so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ing a Tuning Fork to Produce a Sound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uning fork will produce a pure musical n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ines vibrate, they disturb the air near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ine swings to the right, it forces the air molecules near it closer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oduces a high density area in the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n area of com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91240" y="2017800"/>
            <a:ext cx="271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Example of Reson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dulum A is set in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s begin to vibrate due to the  vibrations in the flexible b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dulum C oscillates at the greatest amplitude since its length, and therefore frequency, matches that of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94320" y="201780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ther Examples of Resona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ld being pushed on a sw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ttering g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coma Narrows Bridge collapse due to oscillations by the wi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per deck of the Nimitz Freeway collapse due to the Loma Prieta earthquak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nding Waves in Air Colum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one end of the air column is closed, a node must exist at this end since the movement of the air is restri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end is open, the elements of the air have complete freedom of movement and an antinode ex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be Open at Both En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981080"/>
            <a:ext cx="8964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onance in Air Column Open at Both En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pipe open at both ends, the natural frequency of vibration forms a series whose harmonics are equal to integral multiples of the fundamental frequ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52480" y="4572000"/>
          <a:ext cx="577080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0"/>
                    <a:ext cx="57708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be Closed at One E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2438280"/>
            <a:ext cx="89647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onance in an Air Column Closed at One E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losed end must be a 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pen end is an antin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no even multiples of the fundamental harm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76520" y="3200400"/>
          <a:ext cx="627048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627048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a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ea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alternations in loudness, due to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s have slightly different frequencies and the time between constructive and destructive interference altern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at 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quals the difference in frequency between the two sourc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90720" y="4630680"/>
            <a:ext cx="4800600" cy="22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6400800" y="5181480"/>
          <a:ext cx="23241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5181480"/>
                    <a:ext cx="2324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lity of Sound –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ning F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ning fork produces only the fundamental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4656240"/>
            <a:ext cx="5029200" cy="2201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145120" y="210816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lity of Sound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e note played on a flute sounds differen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cond harmonic is very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urth harmonic is close in strength to the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34120" y="5102280"/>
            <a:ext cx="3809880" cy="1755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030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ing a Tuning Fork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tine moves toward the left, the air molecules to the right of the tine spread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duces an area of low d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area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are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1480" y="2017800"/>
            <a:ext cx="265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Quality of Sound –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arine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fth harmonic is very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rst and fourth harmonics are very similar, with the third being close to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334120" y="4971960"/>
            <a:ext cx="3809880" cy="1886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867280" y="1295280"/>
            <a:ext cx="303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imb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music, the characteristic sound of any instrument is referred to as the quality of sound, or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imbre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the s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quality depends on the mixture of harmonics in the s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it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ch is related mainly, although not completely, to the frequency of the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ch is not a physical property of the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is the stimulus and pitch is the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a psychological reaction that allows humans to place the sound on a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 Ea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uter ear consists of the ear canal that terminates at the eard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 behind the eardrum is the middle 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ones in the middle ear transmit sounds to the inner 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145120" y="2751120"/>
            <a:ext cx="3809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requency Response Cur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tom curve is the threshold of hea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shold of hearing is strongly dependent on frequ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iest frequency to hear is about 3300 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ound is loud (top curve, threshold of pain) all frequencies can be heard equally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145120" y="243684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,5,12,21,23,27,31,43,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sing a Tuning Fork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uning fork continues to vibrate, a succession of compressions and rarefactions spread out from the f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nusoidal curve can be used to represent the longitudinal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sts correspond to compressions and troughs to raref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70360" y="2017800"/>
            <a:ext cx="419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tegories of Sound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ble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 within the normal range of hearing of the human 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ly between 20 Hz to 20,000 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onic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ies are below the audible r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rthquakes are an 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ltrasonic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ies are above the audible r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g whistles are an 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Ultrasou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used to produce images of small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ly used as a diagnostic and treatment tool in medic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ltrasonic flow meter to measure blood f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us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iezoelectr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vices that transform electrical energy into mechanical ener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ersible: mechanical to electr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ltrasounds to observe babies in the wom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vitron Ultrasonic Surgical Aspirator (CUSA) used to surgically remove brain tum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ltrasonic ranging unit for came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Sound in a Liq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liquid, the speed depends on the liquid’s compressibility and inert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is the Bulk Modulus of the liq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ρ is the density of the liq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Compares with the equation for a transverse wave on a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65440" y="2895480"/>
          <a:ext cx="142236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895480"/>
                    <a:ext cx="142236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00:17:06Z</dcterms:created>
  <dc:creator>Marilyn Akins</dc:creator>
  <dc:description/>
  <dc:language>en-US</dc:language>
  <cp:lastModifiedBy>DCPS</cp:lastModifiedBy>
  <dcterms:modified xsi:type="dcterms:W3CDTF">2008-11-21T19:46:11Z</dcterms:modified>
  <cp:revision>12</cp:revision>
  <dc:subject/>
  <dc:title>Chapter 14</dc:title>
</cp:coreProperties>
</file>